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01E-E1BC-4BD9-85B7-E6B99B21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F44-8E38-4A34-A63C-F027B4A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271-F26F-496E-BD7A-18691C4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1B4-4D02-4257-947E-FA3F3F2B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8BB-1076-4EBD-BC95-9F40FF7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379-F080-4AA4-A358-C0685EC8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0DA-C38A-437A-A5CD-59DE3BB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164-8316-4C00-B35D-51E3C60F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554-ACD7-43ED-9C7C-0D2E892C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DD8-54AF-4EC9-9A9E-D7A8204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79F-1BB8-48BC-A41F-9C9C4A3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7CC-656E-4F28-9AB3-20445047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81F89-0EEF-4067-9024-998708F360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95360" y="1271520"/>
            <a:ext cx="8385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A Travel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019320" y="4605480"/>
            <a:ext cx="56246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2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04720" y="1114560"/>
            <a:ext cx="82663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文本框 25" descr=""/>
          <p:cNvPicPr/>
          <p:nvPr/>
        </p:nvPicPr>
        <p:blipFill>
          <a:blip r:embed="rId1"/>
          <a:stretch/>
        </p:blipFill>
        <p:spPr>
          <a:xfrm>
            <a:off x="1803240" y="117360"/>
            <a:ext cx="6186600" cy="140040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 19"/>
          <p:cNvGrpSpPr/>
          <p:nvPr/>
        </p:nvGrpSpPr>
        <p:grpSpPr>
          <a:xfrm>
            <a:off x="-244440" y="4687920"/>
            <a:ext cx="1660320" cy="2185920"/>
            <a:chOff x="-244440" y="4687920"/>
            <a:chExt cx="1660320" cy="2185920"/>
          </a:xfrm>
        </p:grpSpPr>
        <p:pic>
          <p:nvPicPr>
            <p:cNvPr id="13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237960" y="46879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44440" y="527076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"/>
          <p:cNvPicPr/>
          <p:nvPr/>
        </p:nvPicPr>
        <p:blipFill>
          <a:blip r:embed="rId5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C:\Users\john\Desktop\2.png"/>
          <p:cNvPicPr/>
          <p:nvPr/>
        </p:nvPicPr>
        <p:blipFill>
          <a:blip r:embed="rId6"/>
          <a:stretch/>
        </p:blipFill>
        <p:spPr>
          <a:xfrm>
            <a:off x="954000" y="1023840"/>
            <a:ext cx="7405920" cy="4430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032280" y="4957920"/>
            <a:ext cx="53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 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7"/>
          <p:cNvSpPr/>
          <p:nvPr/>
        </p:nvSpPr>
        <p:spPr>
          <a:xfrm>
            <a:off x="3268800" y="1665360"/>
            <a:ext cx="48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双元音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aɪ /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发音规则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577800" y="1706400"/>
            <a:ext cx="2549520" cy="667080"/>
            <a:chOff x="577800" y="1706400"/>
            <a:chExt cx="2549520" cy="667080"/>
          </a:xfrm>
        </p:grpSpPr>
        <p:sp>
          <p:nvSpPr>
            <p:cNvPr id="143" name="圆角矩形 18"/>
            <p:cNvSpPr/>
            <p:nvPr/>
          </p:nvSpPr>
          <p:spPr>
            <a:xfrm>
              <a:off x="1349280" y="178416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9"/>
            <p:cNvSpPr/>
            <p:nvPr/>
          </p:nvSpPr>
          <p:spPr>
            <a:xfrm>
              <a:off x="1630440" y="17650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77800" y="1706400"/>
              <a:ext cx="1087560" cy="667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6" name=""/>
          <p:cNvGraphicFramePr/>
          <p:nvPr/>
        </p:nvGraphicFramePr>
        <p:xfrm>
          <a:off x="860400" y="2712960"/>
          <a:ext cx="7656480" cy="3036960"/>
        </p:xfrm>
        <a:graphic>
          <a:graphicData uri="http://schemas.openxmlformats.org/drawingml/2006/table">
            <a:tbl>
              <a:tblPr/>
              <a:tblGrid>
                <a:gridCol w="2457360"/>
                <a:gridCol w="2276640"/>
                <a:gridCol w="2922480"/>
              </a:tblGrid>
              <a:tr h="566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音要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口型示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gh: high, tonight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: my, t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: nice, fine, 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aɪ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双元音，发音时，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a/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滑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ɪ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，前重后轻口形随之变化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5716440" y="3886200"/>
            <a:ext cx="268776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274760" y="1684440"/>
            <a:ext cx="688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Mr. Smith _____ a trip to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re going to  B. is going to  C. i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oday is Thursday. Tomorrow is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un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riday        C.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We have no lessons _____ Saturdays or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                   B. with           C.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151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"/>
          <p:cNvSpPr/>
          <p:nvPr/>
        </p:nvSpPr>
        <p:spPr>
          <a:xfrm>
            <a:off x="3251160" y="2355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6110280" y="34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4394160" y="45720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2"/>
          <a:stretch/>
        </p:blipFill>
        <p:spPr>
          <a:xfrm>
            <a:off x="6464160" y="2130480"/>
            <a:ext cx="1368720" cy="11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1322280" y="2152800"/>
            <a:ext cx="65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etting ready _____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hav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or    C. for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16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2"/>
          <p:cNvSpPr/>
          <p:nvPr/>
        </p:nvSpPr>
        <p:spPr>
          <a:xfrm>
            <a:off x="4363920" y="2274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71760" y="3416400"/>
            <a:ext cx="6480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"/>
          <p:cNvSpPr/>
          <p:nvPr/>
        </p:nvSpPr>
        <p:spPr>
          <a:xfrm>
            <a:off x="2465280" y="341640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et ready fo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名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动名词；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et ready 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1174680" y="1535040"/>
            <a:ext cx="695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看图片，写出对应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6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  __________  __________  __________  __________  __________  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24"/>
          <p:cNvGrpSpPr/>
          <p:nvPr/>
        </p:nvGrpSpPr>
        <p:grpSpPr>
          <a:xfrm>
            <a:off x="7090920" y="1173240"/>
            <a:ext cx="1710360" cy="368280"/>
            <a:chOff x="7090920" y="1173240"/>
            <a:chExt cx="1710360" cy="368280"/>
          </a:xfrm>
        </p:grpSpPr>
        <p:sp>
          <p:nvSpPr>
            <p:cNvPr id="169" name="矩形 25"/>
            <p:cNvSpPr/>
            <p:nvPr/>
          </p:nvSpPr>
          <p:spPr>
            <a:xfrm>
              <a:off x="7090920" y="1190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7"/>
            <p:cNvSpPr/>
            <p:nvPr/>
          </p:nvSpPr>
          <p:spPr>
            <a:xfrm>
              <a:off x="7147800" y="1173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3"/>
          <p:cNvSpPr/>
          <p:nvPr/>
        </p:nvSpPr>
        <p:spPr>
          <a:xfrm>
            <a:off x="1467000" y="34146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3162240" y="342900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746600" y="343224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6305400" y="34052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4" descr=""/>
          <p:cNvPicPr/>
          <p:nvPr/>
        </p:nvPicPr>
        <p:blipFill>
          <a:blip r:embed="rId2"/>
          <a:stretch/>
        </p:blipFill>
        <p:spPr>
          <a:xfrm>
            <a:off x="1523880" y="2316240"/>
            <a:ext cx="88596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"/>
          <p:cNvPicPr/>
          <p:nvPr/>
        </p:nvPicPr>
        <p:blipFill>
          <a:blip r:embed="rId3"/>
          <a:stretch/>
        </p:blipFill>
        <p:spPr>
          <a:xfrm>
            <a:off x="3213000" y="2238480"/>
            <a:ext cx="933480" cy="119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"/>
          <p:cNvPicPr/>
          <p:nvPr/>
        </p:nvPicPr>
        <p:blipFill>
          <a:blip r:embed="rId4"/>
          <a:stretch/>
        </p:blipFill>
        <p:spPr>
          <a:xfrm>
            <a:off x="4818240" y="2262240"/>
            <a:ext cx="90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"/>
          <p:cNvPicPr/>
          <p:nvPr/>
        </p:nvPicPr>
        <p:blipFill>
          <a:blip r:embed="rId5"/>
          <a:stretch/>
        </p:blipFill>
        <p:spPr>
          <a:xfrm>
            <a:off x="6456240" y="2262240"/>
            <a:ext cx="8668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"/>
          <p:cNvPicPr/>
          <p:nvPr/>
        </p:nvPicPr>
        <p:blipFill>
          <a:blip r:embed="rId6"/>
          <a:stretch/>
        </p:blipFill>
        <p:spPr>
          <a:xfrm>
            <a:off x="2527200" y="4487760"/>
            <a:ext cx="885960" cy="111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"/>
          <p:cNvPicPr/>
          <p:nvPr/>
        </p:nvPicPr>
        <p:blipFill>
          <a:blip r:embed="rId7"/>
          <a:stretch/>
        </p:blipFill>
        <p:spPr>
          <a:xfrm>
            <a:off x="4149720" y="4444920"/>
            <a:ext cx="847800" cy="112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0" descr=""/>
          <p:cNvPicPr/>
          <p:nvPr/>
        </p:nvPicPr>
        <p:blipFill>
          <a:blip r:embed="rId8"/>
          <a:stretch/>
        </p:blipFill>
        <p:spPr>
          <a:xfrm>
            <a:off x="5845320" y="4402080"/>
            <a:ext cx="914400" cy="1209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2058840" y="561960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971880" y="56196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667480" y="56260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930240" y="10620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855720" y="2722680"/>
            <a:ext cx="720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dn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ur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read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ing to travel by tr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ill go to Beijing on Februar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7560" y="5211720"/>
            <a:ext cx="49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 plan for your tr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s://timgsa.baidu.com/timg?image&amp;quality=80&amp;size=b9999_10000&amp;sec=1497761682765&amp;di=fd302a4ed557ce6bc397449f6b499a78&amp;imgtype=0&amp;src=http%3A%2F%2Fimg01.51edu.com%2Fuploadfile%2F20150730%2F1438246719554257.jpg"/>
          <p:cNvPicPr/>
          <p:nvPr/>
        </p:nvPicPr>
        <p:blipFill>
          <a:blip r:embed="rId2"/>
          <a:stretch/>
        </p:blipFill>
        <p:spPr>
          <a:xfrm>
            <a:off x="1984320" y="1298520"/>
            <a:ext cx="48546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25" descr=""/>
          <p:cNvPicPr/>
          <p:nvPr/>
        </p:nvPicPr>
        <p:blipFill>
          <a:blip r:embed="rId1"/>
          <a:stretch/>
        </p:blipFill>
        <p:spPr>
          <a:xfrm>
            <a:off x="1666800" y="77760"/>
            <a:ext cx="6513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5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6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452520" y="1255680"/>
            <a:ext cx="823752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057480" y="1163520"/>
            <a:ext cx="53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going to travel by train. We will go to Beijing on February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7"/>
          <p:cNvSpPr/>
          <p:nvPr/>
        </p:nvSpPr>
        <p:spPr>
          <a:xfrm>
            <a:off x="2654280" y="1774800"/>
            <a:ext cx="593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are going to travel by train. We will go to Beijing on February 3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将要乘火车去旅行。我们将在二月三日去北京。 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-36360" y="1816200"/>
            <a:ext cx="2549520" cy="666720"/>
            <a:chOff x="-36360" y="1816200"/>
            <a:chExt cx="2549520" cy="666720"/>
          </a:xfrm>
        </p:grpSpPr>
        <p:sp>
          <p:nvSpPr>
            <p:cNvPr id="78" name="圆角矩形 18"/>
            <p:cNvSpPr/>
            <p:nvPr/>
          </p:nvSpPr>
          <p:spPr>
            <a:xfrm>
              <a:off x="735120" y="1893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19"/>
            <p:cNvSpPr/>
            <p:nvPr/>
          </p:nvSpPr>
          <p:spPr>
            <a:xfrm>
              <a:off x="1016280" y="1874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-36360" y="1816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5"/>
          <p:cNvSpPr/>
          <p:nvPr/>
        </p:nvSpPr>
        <p:spPr>
          <a:xfrm>
            <a:off x="1087560" y="41673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句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2048040" y="3997440"/>
            <a:ext cx="60544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be going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will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135160" y="1984320"/>
            <a:ext cx="57085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上两个句式是一般将来时的基本结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某人将要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1100160" y="21495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166760" y="34434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079720" y="3290760"/>
            <a:ext cx="5535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oing to visit my friend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I will visit my friend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明天将要去拜访我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7"/>
          <p:cNvSpPr/>
          <p:nvPr/>
        </p:nvSpPr>
        <p:spPr>
          <a:xfrm>
            <a:off x="3056040" y="1224000"/>
            <a:ext cx="3030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星期几的词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631800" y="1297080"/>
            <a:ext cx="2516040" cy="558720"/>
            <a:chOff x="631800" y="1297080"/>
            <a:chExt cx="2516040" cy="558720"/>
          </a:xfrm>
        </p:grpSpPr>
        <p:sp>
          <p:nvSpPr>
            <p:cNvPr id="95" name="圆角矩形 18"/>
            <p:cNvSpPr/>
            <p:nvPr/>
          </p:nvSpPr>
          <p:spPr>
            <a:xfrm>
              <a:off x="1250640" y="1361880"/>
              <a:ext cx="1679400" cy="37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19"/>
            <p:cNvSpPr/>
            <p:nvPr/>
          </p:nvSpPr>
          <p:spPr>
            <a:xfrm>
              <a:off x="1734120" y="1325520"/>
              <a:ext cx="141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31800" y="1297080"/>
              <a:ext cx="1027080" cy="558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8" name=""/>
          <p:cNvGraphicFramePr/>
          <p:nvPr/>
        </p:nvGraphicFramePr>
        <p:xfrm>
          <a:off x="768240" y="1957320"/>
          <a:ext cx="7491240" cy="4162320"/>
        </p:xfrm>
        <a:graphic>
          <a:graphicData uri="http://schemas.openxmlformats.org/drawingml/2006/table">
            <a:tbl>
              <a:tblPr/>
              <a:tblGrid>
                <a:gridCol w="1271520"/>
                <a:gridCol w="1484280"/>
                <a:gridCol w="1287720"/>
                <a:gridCol w="811080"/>
                <a:gridCol w="2636640"/>
              </a:tblGrid>
              <a:tr h="579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缩写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来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ekday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作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mʌn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oo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月亮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ue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tjuː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u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iw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战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dne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wen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ode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urs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ɜːz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u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or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雷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五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fraɪ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rigg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爱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19160" y="2712960"/>
          <a:ext cx="7437600" cy="1403280"/>
        </p:xfrm>
        <a:graphic>
          <a:graphicData uri="http://schemas.openxmlformats.org/drawingml/2006/table">
            <a:tbl>
              <a:tblPr/>
              <a:tblGrid>
                <a:gridCol w="1541520"/>
                <a:gridCol w="1284120"/>
                <a:gridCol w="1301760"/>
                <a:gridCol w="820800"/>
                <a:gridCol w="2489400"/>
              </a:tblGrid>
              <a:tr h="7016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ekend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周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ur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’sætədeɪ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tur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农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da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星期日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sʌnde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un’s day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太阳神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04880" y="180648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规律及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663480" y="2265480"/>
            <a:ext cx="7956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个词都是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缩写形式后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在星期几用介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例如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Mo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星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上星期几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修饰，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 Sun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周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下星期几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修饰，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ues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周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7"/>
          <p:cNvSpPr/>
          <p:nvPr/>
        </p:nvSpPr>
        <p:spPr>
          <a:xfrm>
            <a:off x="3057480" y="1511280"/>
            <a:ext cx="4011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et ready for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414360" y="1584360"/>
            <a:ext cx="2549520" cy="666720"/>
            <a:chOff x="414360" y="1584360"/>
            <a:chExt cx="2549520" cy="666720"/>
          </a:xfrm>
        </p:grpSpPr>
        <p:sp>
          <p:nvSpPr>
            <p:cNvPr id="116" name="圆角矩形 18"/>
            <p:cNvSpPr/>
            <p:nvPr/>
          </p:nvSpPr>
          <p:spPr>
            <a:xfrm>
              <a:off x="1185840" y="1662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19"/>
            <p:cNvSpPr/>
            <p:nvPr/>
          </p:nvSpPr>
          <p:spPr>
            <a:xfrm>
              <a:off x="1467000" y="164304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14360" y="15843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Box 5"/>
          <p:cNvSpPr/>
          <p:nvPr/>
        </p:nvSpPr>
        <p:spPr>
          <a:xfrm>
            <a:off x="1531800" y="366552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义词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501920" y="2365200"/>
            <a:ext cx="9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3130560" y="3475080"/>
            <a:ext cx="3895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ready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跟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2571840" y="2200320"/>
            <a:ext cx="56037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跟名词、动名词或代词，代词是人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词时，需用其宾格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519200" y="43322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2589120" y="4140360"/>
            <a:ext cx="5480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 getting ready for schoo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I am getting ready to go to schoo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正在为上学作准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01:22Z</dcterms:modified>
  <cp:revision>7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